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18D-FAD3-4AC5-86FA-E2F9661D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108-9E72-424D-AF92-C4A66B84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28C-141C-4D77-ABED-92006071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21B-0DFB-4EE2-958B-D1FBD1AC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7AC4-CC05-4C85-87F5-4DF07B2E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2EEC-6365-4E2A-AC2F-DDB39885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7DCB-2486-4D87-AA5C-45808AD1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0CD9-14D2-417C-8B89-C1F27EB9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6CA5-1725-4CCD-91EE-F160C633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7190-782F-4F3F-8013-FC3CB4EA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561F-1A4D-43C9-8840-94357086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09D-F38A-472B-BD5D-E431F9B6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CE3D-EEA4-44D5-9E21-58844927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54C3-D798-41C9-B361-63BAA4BC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39DC-CD00-4E19-ACB6-5A162962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DA9D-3410-4299-A366-33721EF9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68DA-9CC6-4E89-B3DD-DF3DE59D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B4E-EB24-4348-9824-5A158E8A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1C3-A406-4E6C-91B9-2A8D8A92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411-C046-443C-A47C-3F64CE42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050-8AA8-4D55-8485-2255E903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2D8-2C72-45A8-93D0-A0E2762B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674-EE8E-4E49-B7F9-E4AB96CB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C29-A00C-4CDB-84FE-3CC01C44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3B10-5040-4B6B-9ABE-248E77B208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6A16-19C9-46A5-943F-0C211E9C95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gross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 rot="20788800">
            <a:off x="228600" y="761760"/>
            <a:ext cx="8085240" cy="41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ccff">
                        <a:alpha val="68235"/>
                      </a:srgbClr>
                    </a:gs>
                    <a:gs pos="100000">
                      <a:srgbClr val="ffcc66"/>
                    </a:gs>
                  </a:gsLst>
                  <a:lin ang="621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ALKIE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ccff">
                      <a:alpha val="68235"/>
                    </a:srgbClr>
                  </a:gs>
                  <a:gs pos="100000">
                    <a:srgbClr val="ffcc66"/>
                  </a:gs>
                </a:gsLst>
                <a:lin ang="621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ccff">
                        <a:alpha val="68235"/>
                      </a:srgbClr>
                    </a:gs>
                    <a:gs pos="100000">
                      <a:srgbClr val="ffcc66"/>
                    </a:gs>
                  </a:gsLst>
                  <a:lin ang="621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ALKI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ccff">
                      <a:alpha val="68235"/>
                    </a:srgbClr>
                  </a:gs>
                  <a:gs pos="100000">
                    <a:srgbClr val="ffcc66"/>
                  </a:gs>
                </a:gsLst>
                <a:lin ang="621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6921000" y="506556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Jerem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9/27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puter 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08240" y="5365800"/>
            <a:ext cx="359748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ic: freeplay music,vide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Gam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10/4/2010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ventor: Al Gro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In 1948 Al pioneered the citizen’s ba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He made the telephone pager in194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Al was born in 1918 in Toronto, Cana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He grew up in Cleve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Al earned his radio license at age 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vention: Walkie Talk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 effective range is 30 mi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se tools weigh 3 ½ pounds ea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 collapsible antenna made it easy to sto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y are powered by 2 A and B batte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1938 is the year they were inven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1606680" cy="1905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715160" y="316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Al"/>
          <p:cNvPicPr/>
          <p:nvPr/>
        </p:nvPicPr>
        <p:blipFill>
          <a:blip r:embed="rId1"/>
          <a:srcRect l="28724" t="0" r="0" b="0"/>
          <a:stretch/>
        </p:blipFill>
        <p:spPr>
          <a:xfrm>
            <a:off x="3657600" y="1981080"/>
            <a:ext cx="5105520" cy="2208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19320" y="4952880"/>
            <a:ext cx="103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LEMELSON MIT, </a:t>
            </a:r>
            <a:r>
              <a:rPr b="0" lang="en-US" sz="1800" spc="-1" strike="noStrike" u="sng">
                <a:solidFill>
                  <a:srgbClr val="00ff00"/>
                </a:solidFill>
                <a:uFillTx/>
                <a:latin typeface="Verdana"/>
              </a:rPr>
              <a:t>The Walkie Talkie</a:t>
            </a: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, 9/29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82120" y="5257800"/>
            <a:ext cx="46522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eb.mit.edu/invent/iow/gro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Al"/>
          <p:cNvPicPr/>
          <p:nvPr/>
        </p:nvPicPr>
        <p:blipFill>
          <a:blip r:embed="rId3"/>
          <a:stretch/>
        </p:blipFill>
        <p:spPr>
          <a:xfrm>
            <a:off x="380880" y="1523880"/>
            <a:ext cx="2855880" cy="30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2Z</dcterms:created>
  <dc:creator>install</dc:creator>
  <dc:description/>
  <dc:language>en-US</dc:language>
  <cp:lastModifiedBy>install</cp:lastModifiedBy>
  <dcterms:modified xsi:type="dcterms:W3CDTF">2010-10-14T17:29:32Z</dcterms:modified>
  <cp:revision>17</cp:revision>
  <dc:subject/>
  <dc:title>Slide 1</dc:title>
</cp:coreProperties>
</file>